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DFB-FD96-40C3-B394-146100E6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7CC-18A6-4DB5-AF08-988B16B4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E9F-2B1B-4704-BDD3-EE951E4C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72E-2337-42B6-9B0C-03CC2237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A68-A63C-41F0-8CFD-0F4FEE2C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1D9-1343-449A-8A5B-BD9450FE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EC4-4903-4AED-8903-8E4FF6FD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B26-3E4E-4181-813D-42EFE5C5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7F7-6E50-4CA4-B199-7E2FCAA3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D68-7291-453D-A6A9-9224C4F5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ACA-DD69-46A1-8A97-7E58E943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BF0-5E74-4B82-A2F6-C07EE94C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91BF-6007-4C04-985E-552B93D99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krinskymenachem/3637398582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in flight / Menachem Krinsk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1400"/>
            <a:ext cx="6858000" cy="67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26:20Z</dcterms:created>
  <dc:creator>Patrick J. Mooney</dc:creator>
  <dc:description/>
  <dc:language>en-US</dc:language>
  <cp:lastModifiedBy>Patrick J. Mooney</cp:lastModifiedBy>
  <dcterms:modified xsi:type="dcterms:W3CDTF">2010-03-30T14:30:30Z</dcterms:modified>
  <cp:revision>1</cp:revision>
  <dc:subject/>
  <dc:title>Slide 1</dc:title>
</cp:coreProperties>
</file>